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3099-78BC-4319-86A8-4A5022B89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BF31-9EF5-498B-BDAA-A5F0AE04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4DD5-76EE-49FC-AF5B-AAC9E31E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7DB1-6C6C-4A8C-AE1F-8E718F75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5993-5AFE-4993-BBFD-09843597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9AE3-9048-44FE-BFF1-E0EECBCE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D65A-3068-4616-95B4-3CA521B1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2A42-D82A-4615-BA09-6C978795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24BC-FEC2-4FCB-A94A-5C51DEBB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C18B-C2DB-461B-8AA1-B642F1A2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E13D-5EF9-434E-A164-0D02456A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47E0-7593-48D4-AB43-3001F0C7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D8BC-B66D-46F4-89C8-1566C1B4F0A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Parable of the Workers in the Vineyar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Matthew 2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V 1-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4" descr="article-1192694-03EA9C660000044D-940_468x326.jpg"/>
          <p:cNvPicPr/>
          <p:nvPr/>
        </p:nvPicPr>
        <p:blipFill>
          <a:blip r:embed="rId1"/>
          <a:stretch/>
        </p:blipFill>
        <p:spPr>
          <a:xfrm>
            <a:off x="539640" y="1700280"/>
            <a:ext cx="3786120" cy="2881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 landowner went out early in the morning to hire workers for his vineyard. He agreed to pay them a denarius for the day and sent them into his vineyar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4" descr="People-looking-for-work-w-001.jpg"/>
          <p:cNvPicPr/>
          <p:nvPr/>
        </p:nvPicPr>
        <p:blipFill>
          <a:blip r:embed="rId1"/>
          <a:stretch/>
        </p:blipFill>
        <p:spPr>
          <a:xfrm>
            <a:off x="395280" y="1557360"/>
            <a:ext cx="4038480" cy="2879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bout nine in the morning he went out and saw others standing in the marketplace doing nothing. He told them, ‘You also go and work in my vineyard, and I will pay you whatever is right.’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   “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e went out again about noon and about three in the afternoon and did the same t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4" descr="article-0-002A7BA500000578-382_468x286.jpg"/>
          <p:cNvPicPr/>
          <p:nvPr/>
        </p:nvPicPr>
        <p:blipFill>
          <a:blip r:embed="rId1"/>
          <a:stretch/>
        </p:blipFill>
        <p:spPr>
          <a:xfrm>
            <a:off x="469800" y="2060640"/>
            <a:ext cx="4025880" cy="3036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bout five in the afternoon he went out and found still others standing around. He asked them, ‘Why have you been standing here all day long doing nothing?’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  “‘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ecause no one has hired us,’ they answered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   “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e said to them, ‘You also go and work in my vineyard.’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4" descr="article-page-main_ehow-uk_images_a07_iq_t6_traditional-theory-wages-economics-800x800.jpg"/>
          <p:cNvPicPr/>
          <p:nvPr/>
        </p:nvPicPr>
        <p:blipFill>
          <a:blip r:embed="rId1"/>
          <a:stretch/>
        </p:blipFill>
        <p:spPr>
          <a:xfrm>
            <a:off x="868320" y="2290680"/>
            <a:ext cx="3216240" cy="3143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en evening came, the owner of the vineyard said ‘Call the workers and pay them their wages, beginning with the last ones hired and going on to the fi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1557360"/>
            <a:ext cx="4038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he workers who were hired about five in the afternoon came and each received a denarius. So when those came who were hired first, they expected to receive more. But each one of them also received a denarius. When they received it, they began to grumble against the landowne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4" descr="516709-queensland-health-workers-rally-outside-parliament-house.jpg"/>
          <p:cNvPicPr/>
          <p:nvPr/>
        </p:nvPicPr>
        <p:blipFill>
          <a:blip r:embed="rId1"/>
          <a:stretch/>
        </p:blipFill>
        <p:spPr>
          <a:xfrm>
            <a:off x="4648320" y="1628640"/>
            <a:ext cx="40384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se who were hired last worked only one hour,’ they said, ‘and you have made them equal to us.’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4" descr="97082093_ce3931a07c.jpg"/>
          <p:cNvPicPr/>
          <p:nvPr/>
        </p:nvPicPr>
        <p:blipFill>
          <a:blip r:embed="rId1"/>
          <a:stretch/>
        </p:blipFill>
        <p:spPr>
          <a:xfrm>
            <a:off x="4932360" y="1484280"/>
            <a:ext cx="295272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4" descr="alansugarGOFF_450x300.jpg"/>
          <p:cNvPicPr/>
          <p:nvPr/>
        </p:nvPicPr>
        <p:blipFill>
          <a:blip r:embed="rId1"/>
          <a:stretch/>
        </p:blipFill>
        <p:spPr>
          <a:xfrm>
            <a:off x="457200" y="1628640"/>
            <a:ext cx="4038480" cy="3579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ut he answered one of them, ‘I am not being unfair to you, friend. Didn’t you agree to work for a denarius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ake your pay and go. I want to give the one who was hired last the same as I gave you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on’t I have the right to do what I want with my own money? Or are you envious because I am generous?’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2T16:26:59Z</dcterms:created>
  <dc:creator>Derek</dc:creator>
  <dc:description/>
  <dc:language>en-US</dc:language>
  <cp:lastModifiedBy>Derek</cp:lastModifiedBy>
  <dcterms:modified xsi:type="dcterms:W3CDTF">2011-07-02T16:58:59Z</dcterms:modified>
  <cp:revision>2</cp:revision>
  <dc:subject/>
  <dc:title>The Parable of the Workers in the Vineyard </dc:title>
</cp:coreProperties>
</file>