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095-0FBF-42BC-93C8-8B89D1F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9EA-4046-4015-A6DD-1E52EED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F10-3B28-418C-8F85-0B0C27D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94E-D7B2-433F-BEFD-37D622D6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E08-9767-4F76-8F0B-D3EF92D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622-4D92-487A-B40D-C88A0AB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199-102C-4004-94E2-A068E89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587-F8D1-4FB3-8A27-F2A77343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E97-85B1-4B73-9162-7621192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924-C708-4B02-B986-BE74D3E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F8E-B76F-4CFD-BEB8-2654488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A39-28D5-4CD9-BEAF-D407A85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D9D-7C8B-4531-AC97-188A7DD26F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Parable of the Workers in the Viney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tthew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 1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article-1192694-03EA9C660000044D-940_468x326.jpg"/>
          <p:cNvPicPr/>
          <p:nvPr/>
        </p:nvPicPr>
        <p:blipFill>
          <a:blip r:embed="rId1"/>
          <a:stretch/>
        </p:blipFill>
        <p:spPr>
          <a:xfrm>
            <a:off x="539640" y="1700280"/>
            <a:ext cx="37861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andowner went out early in the morning to hire workers for his vineyard. He agreed to pay them a denarius for the day and sent them into his vineya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People-looking-for-work-w-00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nine in the morning he went out and saw others standing in the marketplace doing nothing. He told them, ‘You also go and work in my vineyard, and I will pay you whatever is right.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went out again about noon and about three in the afternoon and did the same 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rticle-0-002A7BA500000578-382_468x286.jpg"/>
          <p:cNvPicPr/>
          <p:nvPr/>
        </p:nvPicPr>
        <p:blipFill>
          <a:blip r:embed="rId1"/>
          <a:stretch/>
        </p:blipFill>
        <p:spPr>
          <a:xfrm>
            <a:off x="469800" y="2060640"/>
            <a:ext cx="4025880" cy="30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five in the afternoon he went out and found still others standing around. He asked them, ‘Why have you been standing here all day long doing nothing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 “‘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cause no one has hired us,’ they answer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said to them, ‘You also go and work in my vineyard.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rticle-page-main_ehow-uk_images_a07_iq_t6_traditional-theory-wages-economics-800x800.jpg"/>
          <p:cNvPicPr/>
          <p:nvPr/>
        </p:nvPicPr>
        <p:blipFill>
          <a:blip r:embed="rId1"/>
          <a:stretch/>
        </p:blipFill>
        <p:spPr>
          <a:xfrm>
            <a:off x="868320" y="2290680"/>
            <a:ext cx="321624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evening came, the owner of the vineyard said ‘Call the workers and pay them their wages, beginning with the last ones hired and going on to th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workers who were hired about five in the afternoon came and each received a denarius. So when those came who were hired first, they expected to receive more. But each one of them also received a denarius. When they received it, they began to grumble against the landown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516709-queensland-health-workers-rally-outside-parliament-house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who were hired last worked only one hour,’ they said, ‘and you have made them equal to us.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97082093_ce3931a07c.jpg"/>
          <p:cNvPicPr/>
          <p:nvPr/>
        </p:nvPicPr>
        <p:blipFill>
          <a:blip r:embed="rId1"/>
          <a:stretch/>
        </p:blipFill>
        <p:spPr>
          <a:xfrm>
            <a:off x="4932360" y="1484280"/>
            <a:ext cx="295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alansugarGOFF_450x300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357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he answered one of them, ‘I am not being unfair to you, friend. Didn’t you agree to work for a denariu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your pay and go. I want to give the one who was hired last the same as I gave yo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on’t I have the right to do what I want with my own money? Or are you envious because I am generous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26:59Z</dcterms:created>
  <dc:creator>Derek</dc:creator>
  <dc:description/>
  <dc:language>en-US</dc:language>
  <cp:lastModifiedBy>Derek</cp:lastModifiedBy>
  <dcterms:modified xsi:type="dcterms:W3CDTF">2011-07-02T16:58:59Z</dcterms:modified>
  <cp:revision>2</cp:revision>
  <dc:subject/>
  <dc:title>The Parable of the Workers in the Vineyard </dc:title>
</cp:coreProperties>
</file>