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C4A-948F-466D-9A28-03481C63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4DF-076B-43D2-ABC5-A3789D49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AAA-DE5C-484C-9ACF-7DD35335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22B-81F4-4D38-A89D-41803A3D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EA2-2A74-45EE-8CD9-7B4726BE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A85-2208-4024-BD9F-171EC746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77F-5B35-424A-A508-EA608FCC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3B8-F47B-4F72-8E71-BA8561E2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9B5-2C66-4FFE-AB02-9E303D6A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F57-363D-44EC-8761-6D560CC2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B4D-A163-4BD9-AAD9-A981C3CE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AD7-6A6A-4898-BF47-41A0DE26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D2CF-A5E7-4FED-AD24-F3168E846E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Parable of the Workers in the Vineya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atthew 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V 1-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article-1192694-03EA9C660000044D-940_468x326.jpg"/>
          <p:cNvPicPr/>
          <p:nvPr/>
        </p:nvPicPr>
        <p:blipFill>
          <a:blip r:embed="rId1"/>
          <a:stretch/>
        </p:blipFill>
        <p:spPr>
          <a:xfrm>
            <a:off x="539640" y="1700280"/>
            <a:ext cx="3786120" cy="288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landowner went out early in the morning to hire workers for his vineyard. He agreed to pay them a denarius for the day and sent them into his vineyar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4" descr="People-looking-for-work-w-001.jpg"/>
          <p:cNvPicPr/>
          <p:nvPr/>
        </p:nvPicPr>
        <p:blipFill>
          <a:blip r:embed="rId1"/>
          <a:stretch/>
        </p:blipFill>
        <p:spPr>
          <a:xfrm>
            <a:off x="395280" y="1557360"/>
            <a:ext cx="403848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nine in the morning he went out and saw others standing in the marketplace doing nothing. He told them, ‘You also go and work in my vineyard, and I will pay you whatever is right.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went out again about noon and about three in the afternoon and did the same t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4" descr="article-0-002A7BA500000578-382_468x286.jpg"/>
          <p:cNvPicPr/>
          <p:nvPr/>
        </p:nvPicPr>
        <p:blipFill>
          <a:blip r:embed="rId1"/>
          <a:stretch/>
        </p:blipFill>
        <p:spPr>
          <a:xfrm>
            <a:off x="469800" y="2060640"/>
            <a:ext cx="4025880" cy="3036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bout five in the afternoon he went out and found still others standing around. He asked them, ‘Why have you been standing here all day long doing nothing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 “‘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ecause no one has hired us,’ they answere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   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e said to them, ‘You also go and work in my vineyard.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4" descr="article-page-main_ehow-uk_images_a07_iq_t6_traditional-theory-wages-economics-800x800.jpg"/>
          <p:cNvPicPr/>
          <p:nvPr/>
        </p:nvPicPr>
        <p:blipFill>
          <a:blip r:embed="rId1"/>
          <a:stretch/>
        </p:blipFill>
        <p:spPr>
          <a:xfrm>
            <a:off x="868320" y="2290680"/>
            <a:ext cx="3216240" cy="314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n evening came, the owner of the vineyard said ‘Call the workers and pay them their wages, beginning with the last ones hired and going on to th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workers who were hired about five in the afternoon came and each received a denarius. So when those came who were hired first, they expected to receive more. But each one of them also received a denarius. When they received it, they began to grumble against the landown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516709-queensland-health-workers-rally-outside-parliament-house.jpg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se who were hired last worked only one hour,’ they said, ‘and you have made them equal to us.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4" descr="97082093_ce3931a07c.jpg"/>
          <p:cNvPicPr/>
          <p:nvPr/>
        </p:nvPicPr>
        <p:blipFill>
          <a:blip r:embed="rId1"/>
          <a:stretch/>
        </p:blipFill>
        <p:spPr>
          <a:xfrm>
            <a:off x="4932360" y="1484280"/>
            <a:ext cx="295272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alansugarGOFF_450x300.jpg"/>
          <p:cNvPicPr/>
          <p:nvPr/>
        </p:nvPicPr>
        <p:blipFill>
          <a:blip r:embed="rId1"/>
          <a:stretch/>
        </p:blipFill>
        <p:spPr>
          <a:xfrm>
            <a:off x="457200" y="1628640"/>
            <a:ext cx="4038480" cy="3579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ut he answered one of them, ‘I am not being unfair to you, friend. Didn’t you agree to work for a denariu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ake your pay and go. I want to give the one who was hired last the same as I gave you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on’t I have the right to do what I want with my own money? Or are you envious because I am generous?’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2T16:26:59Z</dcterms:created>
  <dc:creator>Derek</dc:creator>
  <dc:description/>
  <dc:language>en-US</dc:language>
  <cp:lastModifiedBy>Derek</cp:lastModifiedBy>
  <dcterms:modified xsi:type="dcterms:W3CDTF">2011-07-02T16:58:59Z</dcterms:modified>
  <cp:revision>2</cp:revision>
  <dc:subject/>
  <dc:title>The Parable of the Workers in the Vineyard </dc:title>
</cp:coreProperties>
</file>